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502D59-13E2-4010-B769-E107B7ADA78D}"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51E6F6-EB0D-4666-B2E1-BF68BF54A51E}"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E62120-B6E5-4830-812F-C69D830DB767}"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423821-4312-49C8-9A12-B6EB8B8FA5B1}"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523544-0FEA-4029-A0E0-9C45EF535019}"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52019B-F2B8-4709-A4FE-246EB2F6E1CA}"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0EA894-55A3-49BE-BB1B-57A15EBAF7DD}"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1B687-C2E1-458D-BA43-74C07E3A7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70595-6A4F-4487-ACF2-34CFDD014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A01CD-969E-4B83-8615-F6A9C0EB3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CC547-A5FD-4115-89F4-4E5694150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70D1E-9EC6-4B52-9E6A-559C245CB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79A59-3FCE-48E2-A961-C11659ED8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A5EA2-D0AD-4C8C-B787-965FA7BDC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24D46-DC2F-44B8-841D-E27954252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C5CB4-8657-4538-BF6D-5A2C2671F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CD31B-C275-4E17-BC36-0290E648D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94218-56D3-4E63-A753-E548FE2B6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84767-08EB-4DFF-889C-52C712EBB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50BF7C3-C0DC-4559-B13B-CF82B3037627}"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0" y="-92160"/>
            <a:ext cx="10080720" cy="7832880"/>
          </a:xfrm>
          <a:prstGeom prst="rect">
            <a:avLst/>
          </a:prstGeom>
          <a:solidFill>
            <a:srgbClr val="000000"/>
          </a:solid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7200" spc="-1" strike="noStrike">
                <a:solidFill>
                  <a:srgbClr val="ff0000"/>
                </a:solidFill>
                <a:latin typeface="Monotype Corsiva"/>
              </a:rPr>
              <a:t>Eva Perón no Debe ser Celebrada</a:t>
            </a: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p:txBody>
      </p:sp>
      <p:sp>
        <p:nvSpPr>
          <p:cNvPr id="50" name="Text Box 2"/>
          <p:cNvSpPr/>
          <p:nvPr/>
        </p:nvSpPr>
        <p:spPr>
          <a:xfrm>
            <a:off x="431640" y="5618160"/>
            <a:ext cx="2627640" cy="158292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Jessica Pugnali</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lia Taggart</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elissa Estrada</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rk Llebot</a:t>
            </a:r>
            <a:endParaRPr b="0" lang="en-US" sz="2400" spc="-1" strike="noStrike">
              <a:solidFill>
                <a:srgbClr val="ffffff"/>
              </a:solidFill>
              <a:latin typeface="Arial"/>
            </a:endParaRPr>
          </a:p>
        </p:txBody>
      </p:sp>
      <p:pic>
        <p:nvPicPr>
          <p:cNvPr id="51" name="Picture 3" descr=""/>
          <p:cNvPicPr/>
          <p:nvPr/>
        </p:nvPicPr>
        <p:blipFill>
          <a:blip r:embed="rId1"/>
          <a:stretch/>
        </p:blipFill>
        <p:spPr>
          <a:xfrm>
            <a:off x="3240000" y="2519280"/>
            <a:ext cx="3600360" cy="468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4" name="Picture 3" descr=""/>
          <p:cNvPicPr/>
          <p:nvPr/>
        </p:nvPicPr>
        <p:blipFill>
          <a:blip r:embed="rId1"/>
          <a:stretch/>
        </p:blipFill>
        <p:spPr>
          <a:xfrm>
            <a:off x="0" y="0"/>
            <a:ext cx="10080720" cy="7559640"/>
          </a:xfrm>
          <a:prstGeom prst="rect">
            <a:avLst/>
          </a:prstGeom>
          <a:ln w="0">
            <a:noFill/>
          </a:ln>
        </p:spPr>
      </p:pic>
      <p:sp>
        <p:nvSpPr>
          <p:cNvPr id="55" name="Text Box 4"/>
          <p:cNvSpPr/>
          <p:nvPr/>
        </p:nvSpPr>
        <p:spPr>
          <a:xfrm>
            <a:off x="1374840" y="360360"/>
            <a:ext cx="690408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8000" spc="-1" strike="noStrike">
                <a:solidFill>
                  <a:srgbClr val="ff0000"/>
                </a:solidFill>
                <a:latin typeface="Blackadder ITC"/>
              </a:rPr>
              <a:t>Odiaba los Ricos</a:t>
            </a:r>
            <a:endParaRPr b="0" lang="en-US" sz="8000" spc="-1" strike="noStrike">
              <a:solidFill>
                <a:srgbClr val="ffffff"/>
              </a:solidFill>
              <a:latin typeface="Arial"/>
            </a:endParaRPr>
          </a:p>
        </p:txBody>
      </p:sp>
      <p:sp>
        <p:nvSpPr>
          <p:cNvPr id="56" name="Text Box 5"/>
          <p:cNvSpPr/>
          <p:nvPr/>
        </p:nvSpPr>
        <p:spPr>
          <a:xfrm>
            <a:off x="179280" y="2700360"/>
            <a:ext cx="9720360" cy="360036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200" spc="-1" strike="noStrike">
                <a:solidFill>
                  <a:srgbClr val="ff0000"/>
                </a:solidFill>
                <a:latin typeface="Calibri"/>
              </a:rPr>
              <a:t>Una de las razones porque Eva Perón no debe ser celebrada es porque odiaba a los ricos. Hizo mal en solamente ayudar a los pobres. Todos en Argentina tenían problemas y eso incluía tanto a los ricos como a los pobres. Se agradece mucho por parte de los pobres su generosidad por ayudarlos economicamente pero causó problemas para los ricos. Ella obligaba a los ricos a donar dinero y otras cosas materiales. Las donaciones deben ser un acto de caridad y no un acto de obligación. Eva intento quitar lo que tenían los ricos para dárselos a los pobres y este no es el modo correcto. Ella tenía que haber sido justa con todas las clases sociales en Argentina, sin embargo ayudó solo a los pobres y creó un odio dentro de los ricos.</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812960"/>
            <a:ext cx="9070920" cy="4991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9" name="Picture 3" descr=""/>
          <p:cNvPicPr/>
          <p:nvPr/>
        </p:nvPicPr>
        <p:blipFill>
          <a:blip r:embed="rId1"/>
          <a:stretch/>
        </p:blipFill>
        <p:spPr>
          <a:xfrm>
            <a:off x="0" y="0"/>
            <a:ext cx="10080720" cy="7559640"/>
          </a:xfrm>
          <a:prstGeom prst="rect">
            <a:avLst/>
          </a:prstGeom>
          <a:ln w="0">
            <a:noFill/>
          </a:ln>
        </p:spPr>
      </p:pic>
      <p:sp>
        <p:nvSpPr>
          <p:cNvPr id="60" name="Text Box 4"/>
          <p:cNvSpPr/>
          <p:nvPr/>
        </p:nvSpPr>
        <p:spPr>
          <a:xfrm>
            <a:off x="539640" y="2160720"/>
            <a:ext cx="8820360" cy="4743360"/>
          </a:xfrm>
          <a:prstGeom prst="rect">
            <a:avLst/>
          </a:prstGeom>
          <a:noFill/>
          <a:ln w="0">
            <a:noFill/>
          </a:ln>
        </p:spPr>
        <p:style>
          <a:lnRef idx="0"/>
          <a:fillRef idx="0"/>
          <a:effectRef idx="0"/>
          <a:fontRef idx="minor"/>
        </p:style>
        <p:txBody>
          <a:bodyPr lIns="0" rIns="0" tIns="47160" bIns="0" anchor="t">
            <a:noAutofit/>
          </a:bodyPr>
          <a:p>
            <a:pPr algn="ctr">
              <a:lnSpc>
                <a:spcPct val="83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ff0000"/>
                </a:solidFill>
                <a:latin typeface="MS Mincho"/>
                <a:ea typeface="Arial Unicode MS"/>
              </a:rPr>
              <a:t>Una de las razones porque no debemos celebrar la vida de Evita es que ella ayudó a escapar a muchos Nazis en la Segunda Guerra Mundial. Muchas personas creen que a Perón no le gustaban los Judíos. Otros creen que Perón quería ayudar los Nazis para conseguir el aceso a la tecnología de la guerra. Evita viajó por Europa en el año de 1947 para “mejorar las relaciones diplomáticas.” Viajó a España, Italia, y a Suiza. En realidad, Eva fue a Europa para facilitar la huída de muchos criminales Nazis a Argentina. Su esposo, Juan Perón había hecho muchos pasaportes blancos para que los Nazis usaran para salir de Europa y entrar en Argentina. Eva fue encargada de que eso funcionara. Entre los Nazis que vinieron para vivir en Argentina fueron Joseph Schwamberger (un comandante de un campo de concentración), y Joseph Megele (el médico famoso y sádico). Se cree que la presencia de los Nazis fue la causa del resurgimiento del fascismo en Argentina en las decadas de 1970 y 1980.</a:t>
            </a:r>
            <a:endParaRPr b="0" lang="en-US" sz="2200" spc="-1" strike="noStrike">
              <a:solidFill>
                <a:srgbClr val="ffffff"/>
              </a:solidFill>
              <a:latin typeface="Arial"/>
            </a:endParaRPr>
          </a:p>
        </p:txBody>
      </p:sp>
      <p:sp>
        <p:nvSpPr>
          <p:cNvPr id="61" name="Text Box 5"/>
          <p:cNvSpPr/>
          <p:nvPr/>
        </p:nvSpPr>
        <p:spPr>
          <a:xfrm>
            <a:off x="0" y="493560"/>
            <a:ext cx="9995040" cy="418644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pt-BR" sz="6600" spc="-1" strike="noStrike">
                <a:solidFill>
                  <a:srgbClr val="ff0000"/>
                </a:solidFill>
                <a:latin typeface="Monotype Corsiva"/>
                <a:ea typeface="Arial Unicode MS"/>
              </a:rPr>
              <a:t>Era a Favor de los Nazis</a:t>
            </a:r>
            <a:endParaRPr b="0" lang="en-US" sz="6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4" name="Picture 3" descr=""/>
          <p:cNvPicPr/>
          <p:nvPr/>
        </p:nvPicPr>
        <p:blipFill>
          <a:blip r:embed="rId1"/>
          <a:stretch/>
        </p:blipFill>
        <p:spPr>
          <a:xfrm>
            <a:off x="0" y="0"/>
            <a:ext cx="10080720" cy="7559640"/>
          </a:xfrm>
          <a:prstGeom prst="rect">
            <a:avLst/>
          </a:prstGeom>
          <a:ln w="0">
            <a:noFill/>
          </a:ln>
        </p:spPr>
      </p:pic>
      <p:sp>
        <p:nvSpPr>
          <p:cNvPr id="65" name="Text Box 4"/>
          <p:cNvSpPr/>
          <p:nvPr/>
        </p:nvSpPr>
        <p:spPr>
          <a:xfrm>
            <a:off x="720720" y="495360"/>
            <a:ext cx="864072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8000" spc="-1" strike="noStrike">
                <a:solidFill>
                  <a:srgbClr val="ff0000"/>
                </a:solidFill>
                <a:latin typeface="Blackadder ITC"/>
              </a:rPr>
              <a:t>Era a Favor de Franco</a:t>
            </a:r>
            <a:endParaRPr b="0" lang="en-US" sz="8000" spc="-1" strike="noStrike">
              <a:solidFill>
                <a:srgbClr val="ffffff"/>
              </a:solidFill>
              <a:latin typeface="Arial"/>
            </a:endParaRPr>
          </a:p>
        </p:txBody>
      </p:sp>
      <p:sp>
        <p:nvSpPr>
          <p:cNvPr id="66" name="Text Box 5"/>
          <p:cNvSpPr/>
          <p:nvPr/>
        </p:nvSpPr>
        <p:spPr>
          <a:xfrm>
            <a:off x="539640" y="2340000"/>
            <a:ext cx="8999640" cy="435456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0000"/>
                </a:solidFill>
                <a:latin typeface="Calibri"/>
                <a:ea typeface="Arial Unicode MS"/>
              </a:rPr>
              <a:t>En el año de 1947, Eva Perón y otros dirigentes peronistas pensaron en hacer una gira internacional, que duró 64 días. España fue la primera escala de su viaje, onde pasaron los primeros 18 dias de la gira. En aquel tiempo, España era governada por Francisco Franco, que era dictador. Franco era el único governador facista que aun estaba en poder. Hablar de Franco es hablar de un hombre que fue dictador por 40 años, y lideró un golpe de estado, en que murieron mas de un millón de Españoles en 3 años. Consiguió derrotar al estado republicano democrático Español, gracias a la ayuda de Alemania, de Hitler. En otras palabras, fue un hombre que creó una alianza entre España y Alemania de Hitler. Fue en hombre que no toleró la democracia, por eso fue dictador. Además, mientras los otros países europeos evolucionaban, Franco mantubo España en el mismo lugar, colapsada. Mientras fue dictador, España no exportaba ni importaba. Hizo que España estubiera separada del resto del mundo. Evita se preocupaba mucho por los pobres, pero simpatizaba con la dictadura de Franco al mismo tiempo. ¿No es un poco raro?</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9" name="Picture 3" descr=""/>
          <p:cNvPicPr/>
          <p:nvPr/>
        </p:nvPicPr>
        <p:blipFill>
          <a:blip r:embed="rId1"/>
          <a:stretch/>
        </p:blipFill>
        <p:spPr>
          <a:xfrm>
            <a:off x="0" y="0"/>
            <a:ext cx="10080720" cy="7559640"/>
          </a:xfrm>
          <a:prstGeom prst="rect">
            <a:avLst/>
          </a:prstGeom>
          <a:ln w="0">
            <a:noFill/>
          </a:ln>
        </p:spPr>
      </p:pic>
      <p:sp>
        <p:nvSpPr>
          <p:cNvPr id="70" name="Text Box 4"/>
          <p:cNvSpPr/>
          <p:nvPr/>
        </p:nvSpPr>
        <p:spPr>
          <a:xfrm>
            <a:off x="539640" y="674640"/>
            <a:ext cx="8999640" cy="130500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7200" spc="-1" strike="noStrike">
                <a:solidFill>
                  <a:srgbClr val="ff0000"/>
                </a:solidFill>
                <a:latin typeface="Monotype Corsiva"/>
              </a:rPr>
              <a:t>Empezó la Guerra Sucia</a:t>
            </a:r>
            <a:endParaRPr b="0" lang="en-US" sz="7200" spc="-1" strike="noStrike">
              <a:solidFill>
                <a:srgbClr val="ffffff"/>
              </a:solidFill>
              <a:latin typeface="Arial"/>
            </a:endParaRPr>
          </a:p>
        </p:txBody>
      </p:sp>
      <p:sp>
        <p:nvSpPr>
          <p:cNvPr id="71" name="Text Box 5"/>
          <p:cNvSpPr/>
          <p:nvPr/>
        </p:nvSpPr>
        <p:spPr>
          <a:xfrm>
            <a:off x="720720" y="2519280"/>
            <a:ext cx="8640720" cy="4500720"/>
          </a:xfrm>
          <a:prstGeom prst="rect">
            <a:avLst/>
          </a:prstGeom>
          <a:noFill/>
          <a:ln w="0">
            <a:noFill/>
          </a:ln>
        </p:spPr>
        <p:style>
          <a:lnRef idx="0"/>
          <a:fillRef idx="0"/>
          <a:effectRef idx="0"/>
          <a:fontRef idx="minor"/>
        </p:style>
        <p:txBody>
          <a:bodyPr lIns="0" rIns="0" tIns="14040" bIns="0" anchor="t">
            <a:noAutofit/>
          </a:bodyPr>
          <a:p>
            <a:pPr algn="ct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ff0000"/>
                </a:solidFill>
                <a:latin typeface="Times New Roman"/>
                <a:ea typeface="Arial Unicode MS"/>
              </a:rPr>
              <a:t>Una razón porque no debemos celebrar el aniversário de la muerte de Eva María Duarte de Perón es porque ella causo “La Guerra Sucia” donde muchos argentinos, civiles y soldados fueron atormentados o desaparecieron. “La Guerra Sucia” fue de 1976-1983 donde el gobierno y muchos Nazis, los Nazis que Eva ayudó escapar para Argentina, atormentaron y mataron millones de argentinos subversivos en instalaciones secretas del gobierno. Las personas que de repente desaparecieron fueron llamados “los desaparecidos”. En el comienzo de la década de 1980 fue claro que todos los casos de los muertos y desaparecidos fueron culpa del gobierno. Verdaderamente, la cosa mas clara es que Eva Perón fue parte de esa guerra aunque que no estubiera viva en ese tiempo. Los Nazis quisieron controlar Argentina y pusieron la idea en la cabeza del gobierno. Eva trajo los Nazis para Argentina entonces ella tomó mucha parte en “La Guerra Sucia”.</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93560"/>
            <a:ext cx="10080720" cy="8548560"/>
          </a:xfrm>
          <a:prstGeom prst="rect">
            <a:avLst/>
          </a:prstGeom>
          <a:solidFill>
            <a:srgbClr val="000000"/>
          </a:solid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5000" spc="-1" strike="noStrike">
                <a:solidFill>
                  <a:srgbClr val="ff0000"/>
                </a:solidFill>
                <a:latin typeface="Monotype Corsiva"/>
              </a:rPr>
              <a:t>Fin </a:t>
            </a:r>
            <a:br>
              <a:rPr sz="25000"/>
            </a:br>
            <a:br>
              <a:rPr sz="15000"/>
            </a:br>
            <a:endParaRPr b="0" lang="en-US" sz="25000" spc="-1" strike="noStrike">
              <a:solidFill>
                <a:srgbClr val="000000"/>
              </a:solidFill>
              <a:latin typeface="Arial"/>
            </a:endParaRPr>
          </a:p>
        </p:txBody>
      </p:sp>
      <p:sp>
        <p:nvSpPr>
          <p:cNvPr id="7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endParaRPr b="0" lang="en-US" sz="3200" spc="-1" strike="noStrike">
              <a:solidFill>
                <a:srgbClr val="000000"/>
              </a:solidFill>
              <a:latin typeface="Arial"/>
            </a:endParaRPr>
          </a:p>
        </p:txBody>
      </p:sp>
      <p:pic>
        <p:nvPicPr>
          <p:cNvPr id="74" name="Picture 3" descr=""/>
          <p:cNvPicPr/>
          <p:nvPr/>
        </p:nvPicPr>
        <p:blipFill>
          <a:blip r:embed="rId1"/>
          <a:stretch/>
        </p:blipFill>
        <p:spPr>
          <a:xfrm>
            <a:off x="3425760" y="2981160"/>
            <a:ext cx="323388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46:09Z</dcterms:created>
  <dc:creator>Mike</dc:creator>
  <dc:description/>
  <dc:language>en-US</dc:language>
  <cp:lastModifiedBy>Mike</cp:lastModifiedBy>
  <dcterms:modified xsi:type="dcterms:W3CDTF">2010-03-16T20:51:31Z</dcterms:modified>
  <cp:revision>1</cp:revision>
  <dc:subject/>
  <dc:title>Slide 1</dc:title>
</cp:coreProperties>
</file>